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3.wmf" ContentType="image/x-wmf"/>
  <Override PartName="/ppt/media/image28.jpeg" ContentType="image/jpeg"/>
  <Override PartName="/ppt/media/image51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9.png" ContentType="image/pn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003-A3CA-46B3-8E6E-555D8B4F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55A-E81E-4C27-ADE0-D44AB4C7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7C2-5968-4AA2-8E11-C0A65413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FA4-2724-4ADB-BD5B-28E10830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F19-D057-4369-9054-BEF57A9D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568-4706-4CD4-BCD7-AEC83F2C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C76-377E-447C-AB6D-6B36D5E1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BBE-5D74-405A-B93A-77F50643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2AA-C8F7-42DB-9BBE-46EA9660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98E-EE1F-4452-BBAE-0BA7B7CE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D54-A98C-4734-A12A-FE7C361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26F-A547-46AB-A3C5-90191F2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DA46-72EB-4A46-81D6-818314DAF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14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jpeg"/><Relationship Id="rId3" Type="http://schemas.openxmlformats.org/officeDocument/2006/relationships/image" Target="../media/image30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14.jpeg"/><Relationship Id="rId5" Type="http://schemas.openxmlformats.org/officeDocument/2006/relationships/image" Target="../media/image32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5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1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35.jpeg"/><Relationship Id="rId8" Type="http://schemas.openxmlformats.org/officeDocument/2006/relationships/image" Target="../media/image33.jpeg"/><Relationship Id="rId9" Type="http://schemas.openxmlformats.org/officeDocument/2006/relationships/image" Target="../media/image6.jpeg"/><Relationship Id="rId10" Type="http://schemas.openxmlformats.org/officeDocument/2006/relationships/image" Target="../media/image53.png"/><Relationship Id="rId11" Type="http://schemas.openxmlformats.org/officeDocument/2006/relationships/image" Target="../media/image24.gif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4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lecc.ru/" TargetMode="External"/><Relationship Id="rId3" Type="http://schemas.openxmlformats.org/officeDocument/2006/relationships/hyperlink" Target="http://zem4uzinka.ru/viewtopic.php?id=2374&amp;p=10" TargetMode="External"/><Relationship Id="rId4" Type="http://schemas.openxmlformats.org/officeDocument/2006/relationships/hyperlink" Target="http://all.mybb2.ru/viewtopic.php?p=3845&amp;" TargetMode="External"/><Relationship Id="rId5" Type="http://schemas.openxmlformats.org/officeDocument/2006/relationships/hyperlink" Target="http://stringer.ucoz.ru/index/0-18" TargetMode="External"/><Relationship Id="rId6" Type="http://schemas.openxmlformats.org/officeDocument/2006/relationships/hyperlink" Target="http://www.ussholding.ru/?act=pages&amp;id=1150" TargetMode="External"/><Relationship Id="rId7" Type="http://schemas.openxmlformats.org/officeDocument/2006/relationships/hyperlink" Target="http://www.sevin.ru/redbook/contentp/74.html" TargetMode="External"/><Relationship Id="rId8" Type="http://schemas.openxmlformats.org/officeDocument/2006/relationships/hyperlink" Target="http://volgogradexpo.ru/532/31/" TargetMode="External"/><Relationship Id="rId9" Type="http://schemas.openxmlformats.org/officeDocument/2006/relationships/hyperlink" Target="http://ag.arizona.edu/hydroponictomatoes/pruning.htm" TargetMode="External"/><Relationship Id="rId10" Type="http://schemas.openxmlformats.org/officeDocument/2006/relationships/hyperlink" Target="http://phototusya.narod.ru/photoalbum13.html" TargetMode="External"/><Relationship Id="rId11" Type="http://schemas.openxmlformats.org/officeDocument/2006/relationships/hyperlink" Target="http://www.0lik.ru/2007/11/" TargetMode="External"/><Relationship Id="rId12" Type="http://schemas.openxmlformats.org/officeDocument/2006/relationships/hyperlink" Target="http://allday.ru/index.php?newsid=159611" TargetMode="External"/><Relationship Id="rId13" Type="http://schemas.openxmlformats.org/officeDocument/2006/relationships/hyperlink" Target="http://allday.ru/index.php?newsid=159611" TargetMode="External"/><Relationship Id="rId14" Type="http://schemas.openxmlformats.org/officeDocument/2006/relationships/hyperlink" Target="http://allday.ru/index.php?newsid=159611" TargetMode="External"/><Relationship Id="rId15" Type="http://schemas.openxmlformats.org/officeDocument/2006/relationships/hyperlink" Target="http://allday.ru/user/Krim13/news/" TargetMode="External"/><Relationship Id="rId16" Type="http://schemas.openxmlformats.org/officeDocument/2006/relationships/hyperlink" Target="http://kopona.com/tags/&#1082;&#1083;&#1080;&#1087;&#1072;&#1088;&#1090;/page/9/" TargetMode="External"/><Relationship Id="rId17" Type="http://schemas.openxmlformats.org/officeDocument/2006/relationships/hyperlink" Target="http://kakpostroit-dom.ru/construction/" TargetMode="External"/><Relationship Id="rId18" Type="http://schemas.openxmlformats.org/officeDocument/2006/relationships/hyperlink" Target="http://kakpostroit-dom.ru/construction/" TargetMode="External"/><Relationship Id="rId19" Type="http://schemas.openxmlformats.org/officeDocument/2006/relationships/hyperlink" Target="http://www.goldenone.ru/?page=116" TargetMode="External"/><Relationship Id="rId20" Type="http://schemas.openxmlformats.org/officeDocument/2006/relationships/hyperlink" Target="http://www.goldenone.ru/?page=116" TargetMode="External"/><Relationship Id="rId21" Type="http://schemas.openxmlformats.org/officeDocument/2006/relationships/hyperlink" Target="http://www.goldenone.ru/?page=116" TargetMode="External"/><Relationship Id="rId2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lenagold.ru/fon/clipart/fru.html" TargetMode="External"/><Relationship Id="rId3" Type="http://schemas.openxmlformats.org/officeDocument/2006/relationships/hyperlink" Target="http://www.conventart.ru/index.php?productID=3836" TargetMode="External"/><Relationship Id="rId4" Type="http://schemas.openxmlformats.org/officeDocument/2006/relationships/hyperlink" Target="http://all-flowers.ucoz.ru/photo/narciss/mif_o_narcisse_chitat/2-0-226" TargetMode="External"/><Relationship Id="rId5" Type="http://schemas.openxmlformats.org/officeDocument/2006/relationships/hyperlink" Target="http://www.floo.ru/klipart/gladiolus/1/gladiolus002.html" TargetMode="External"/><Relationship Id="rId6" Type="http://schemas.openxmlformats.org/officeDocument/2006/relationships/hyperlink" Target="http://nifiga-sebe.ru/index.php?year=2009&amp;month=03&amp;day=14" TargetMode="External"/><Relationship Id="rId7" Type="http://schemas.openxmlformats.org/officeDocument/2006/relationships/hyperlink" Target="http://www.all-biz.info/ru/buy/goods/?group=1056075&amp;page=3" TargetMode="External"/><Relationship Id="rId8" Type="http://schemas.openxmlformats.org/officeDocument/2006/relationships/hyperlink" Target="http://apteke.net/article/kapustnaya-dieta.html" TargetMode="External"/><Relationship Id="rId9" Type="http://schemas.openxmlformats.org/officeDocument/2006/relationships/hyperlink" Target="http://rastenia-mira.ru/xlopchatnik-obyknovennyj-upland-gossypium-hirsutum-l/2" TargetMode="External"/><Relationship Id="rId10" Type="http://schemas.openxmlformats.org/officeDocument/2006/relationships/hyperlink" Target="http://doctortrav.ru/herbs/skin/page/4/" TargetMode="External"/><Relationship Id="rId11" Type="http://schemas.openxmlformats.org/officeDocument/2006/relationships/hyperlink" Target="http://www.rutravi.ru/labels/vitaminyi" TargetMode="External"/><Relationship Id="rId12" Type="http://schemas.openxmlformats.org/officeDocument/2006/relationships/hyperlink" Target="http://blogs.mail.ru/mail/irinanesmashnaya/569431fd43aeac8d.html" TargetMode="External"/><Relationship Id="rId13" Type="http://schemas.openxmlformats.org/officeDocument/2006/relationships/hyperlink" Target="http://prowincial.3dn.ru/publ/sad/sadovaja_zemljanika_klubnika/3-1-0-8" TargetMode="External"/><Relationship Id="rId14" Type="http://schemas.openxmlformats.org/officeDocument/2006/relationships/hyperlink" Target="http://sad6sotok.ru/page/12" TargetMode="External"/><Relationship Id="rId15" Type="http://schemas.openxmlformats.org/officeDocument/2006/relationships/hyperlink" Target="http://new.polisorb.ru/ru/Novosti?news_key=1109&amp;page=6" TargetMode="External"/><Relationship Id="rId16" Type="http://schemas.openxmlformats.org/officeDocument/2006/relationships/hyperlink" Target="http://vn.ru/index.php?id=92382" TargetMode="External"/><Relationship Id="rId17" Type="http://schemas.openxmlformats.org/officeDocument/2006/relationships/hyperlink" Target="http://www.asia.ru/ru/Catalog/?page=2&amp;category_id=14620&amp;country=74" TargetMode="External"/><Relationship Id="rId18" Type="http://schemas.openxmlformats.org/officeDocument/2006/relationships/hyperlink" Target="http://www.agroatlas.ru/related/Avena_strigosa_ru.htm" TargetMode="External"/><Relationship Id="rId19" Type="http://schemas.openxmlformats.org/officeDocument/2006/relationships/hyperlink" Target="http://www.belena.biz/sh/ychm.htm" TargetMode="External"/><Relationship Id="rId2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mydisc.am/izosoft_060.html?tab=spec" TargetMode="External"/><Relationship Id="rId3" Type="http://schemas.openxmlformats.org/officeDocument/2006/relationships/hyperlink" Target="http://www.ogorod-bez-zabot.ru/?p=213" TargetMode="External"/><Relationship Id="rId4" Type="http://schemas.openxmlformats.org/officeDocument/2006/relationships/hyperlink" Target="http://rylik.ru/user/Natawka/news/page/59/" TargetMode="Externa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3127320" cy="324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42920" y="765000"/>
            <a:ext cx="78422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99"/>
                </a:solidFill>
                <a:latin typeface="Monotype Corsiva"/>
              </a:rPr>
              <a:t>Растения</a:t>
            </a:r>
            <a:r>
              <a:rPr b="0" lang="en-US" sz="4400" spc="-1" strike="noStrike">
                <a:solidFill>
                  <a:srgbClr val="cc009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Monotype Corsiva"/>
              </a:rPr>
              <a:t>культурные и дикорастущ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000" y="4724280"/>
            <a:ext cx="39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Окружающи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19461600">
            <a:off x="2484360" y="1483920"/>
            <a:ext cx="1062000" cy="2352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129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Arial"/>
              </a:rPr>
              <a:t>Все культурные растения тоже можно разделить на групп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1319400" cy="165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340000" y="4437000"/>
            <a:ext cx="157788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724360" y="1989000"/>
            <a:ext cx="142092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39640" y="4292640"/>
            <a:ext cx="1706760" cy="1604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995640" y="1700280"/>
            <a:ext cx="1670040" cy="1873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6012000" y="4292640"/>
            <a:ext cx="110484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7164360" y="4221000"/>
            <a:ext cx="1503360" cy="2132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4067280" y="447660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7451640" y="1700280"/>
            <a:ext cx="1204920" cy="1771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61520" y="549360"/>
            <a:ext cx="265572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Найди па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357720"/>
            <a:ext cx="1295640" cy="1150920"/>
          </a:xfrm>
          <a:prstGeom prst="line">
            <a:avLst/>
          </a:prstGeom>
          <a:ln w="57240">
            <a:solidFill>
              <a:srgbClr val="c4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763280" y="3357720"/>
            <a:ext cx="1295640" cy="1150920"/>
          </a:xfrm>
          <a:prstGeom prst="line">
            <a:avLst/>
          </a:prstGeom>
          <a:ln w="57240">
            <a:solidFill>
              <a:srgbClr val="c4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500280"/>
            <a:ext cx="1655640" cy="1008360"/>
          </a:xfrm>
          <a:prstGeom prst="line">
            <a:avLst/>
          </a:prstGeom>
          <a:ln w="57240">
            <a:solidFill>
              <a:srgbClr val="c4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58920" y="3500280"/>
            <a:ext cx="1800360" cy="1008360"/>
          </a:xfrm>
          <a:prstGeom prst="line">
            <a:avLst/>
          </a:prstGeom>
          <a:ln w="57240">
            <a:solidFill>
              <a:srgbClr val="c4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28000" y="3357720"/>
            <a:ext cx="0" cy="1008000"/>
          </a:xfrm>
          <a:prstGeom prst="line">
            <a:avLst/>
          </a:prstGeom>
          <a:ln w="57240">
            <a:solidFill>
              <a:srgbClr val="c4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425600" cy="178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020000" y="333360"/>
            <a:ext cx="1649160" cy="1655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2106360" cy="2240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47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800080"/>
                </a:solidFill>
                <a:latin typeface="Monotype Corsiva"/>
              </a:rPr>
              <a:t>Плодовые культуры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2193840"/>
            <a:ext cx="7775280" cy="2043720"/>
          </a:xfrm>
          <a:prstGeom prst="rect">
            <a:avLst/>
          </a:prstGeom>
          <a:solidFill>
            <a:srgbClr val="ffff99"/>
          </a:solidFill>
          <a:ln w="57240">
            <a:solidFill>
              <a:srgbClr val="c44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довые растения растут в са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ним относятся не только фрукт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ья, но и кустарники, и трав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ющие нам пл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419640" y="4437000"/>
            <a:ext cx="2471400" cy="1854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227640" y="4437000"/>
            <a:ext cx="2327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1800000" cy="1440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         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           </a:t>
            </a:r>
            <a:r>
              <a:rPr b="0" lang="en-US" sz="5400" spc="-1" strike="noStrike">
                <a:solidFill>
                  <a:srgbClr val="006600"/>
                </a:solidFill>
                <a:latin typeface="Monotype Corsiva"/>
              </a:rPr>
              <a:t>Овощные культу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164360" y="476280"/>
            <a:ext cx="1478160" cy="164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4680" y="2349360"/>
            <a:ext cx="7111800" cy="10688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ощные культуры растут на пол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 ого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1967040" cy="205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203640" y="4076640"/>
            <a:ext cx="2616120" cy="188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940360" y="4149720"/>
            <a:ext cx="24591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270480" y="4292640"/>
            <a:ext cx="965520" cy="2206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465360" y="4149720"/>
            <a:ext cx="1538280" cy="2309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236000" y="476280"/>
            <a:ext cx="1293480" cy="223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68360" y="404640"/>
            <a:ext cx="1963800" cy="2202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0" lang="en-US" sz="5400" spc="-1" strike="noStrike">
                <a:solidFill>
                  <a:srgbClr val="cc6600"/>
                </a:solidFill>
                <a:latin typeface="Monotype Corsiva"/>
              </a:rPr>
              <a:t>Зерновые культу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7760" y="2708280"/>
            <a:ext cx="7860240" cy="1556280"/>
          </a:xfrm>
          <a:prstGeom prst="rect">
            <a:avLst/>
          </a:prstGeom>
          <a:solidFill>
            <a:srgbClr val="ffcc66"/>
          </a:solidFill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рновые культуры растут на полях.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ёрен пшеницы, ячменя, ржи, ов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ают муку и кру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539640" y="4365720"/>
            <a:ext cx="1552680" cy="2049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02000" y="57736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54360" y="5789520"/>
            <a:ext cx="10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8680" y="578952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09720" cy="266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1827000" cy="2592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Monotype Corsiva"/>
              </a:rPr>
              <a:t>Прядильные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8200" y="24829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200" y="3213000"/>
            <a:ext cx="7657560" cy="3018600"/>
          </a:xfrm>
          <a:prstGeom prst="rect">
            <a:avLst/>
          </a:prstGeom>
          <a:solidFill>
            <a:srgbClr val="cc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дильные растения очень ц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дают прекрасное волокно, из кот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го вырабатывают ткани: ситец, бя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тин, трикотаж, постельное бельё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фельные полоте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2520" y="242100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лоп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09280" y="242100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24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372360" y="476280"/>
            <a:ext cx="2179440" cy="27432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Monotype Corsiva"/>
              </a:rPr>
              <a:t>Декоративные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Monotype Corsiva"/>
              </a:rPr>
              <a:t>раст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960" y="2997360"/>
            <a:ext cx="809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оны, нарциссы, гладиолусы, тюльп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цветы. Их выращи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лумбах для кра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1762200" cy="1885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300720" y="400536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736720" cy="2232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2141640" cy="287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2664000" cy="2158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32000" y="1052640"/>
            <a:ext cx="43200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35280" y="1052640"/>
            <a:ext cx="5184720" cy="431640"/>
            <a:chOff x="3635280" y="1052640"/>
            <a:chExt cx="5184720" cy="431640"/>
          </a:xfrm>
        </p:grpSpPr>
        <p:sp>
          <p:nvSpPr>
            <p:cNvPr id="180" name=""/>
            <p:cNvSpPr/>
            <p:nvPr/>
          </p:nvSpPr>
          <p:spPr>
            <a:xfrm>
              <a:off x="8388360" y="10526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7280" y="10526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00360" y="105264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24720" y="10526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5280" y="105264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56360" y="105264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91280" y="105264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59640" y="10526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27640" y="105264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6000" y="10526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64000" y="105264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32360" y="10526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388360" y="620640"/>
            <a:ext cx="431640" cy="3456000"/>
            <a:chOff x="8388360" y="620640"/>
            <a:chExt cx="431640" cy="3456000"/>
          </a:xfrm>
        </p:grpSpPr>
        <p:sp>
          <p:nvSpPr>
            <p:cNvPr id="193" name=""/>
            <p:cNvSpPr/>
            <p:nvPr/>
          </p:nvSpPr>
          <p:spPr>
            <a:xfrm>
              <a:off x="8388360" y="36450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8360" y="321300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8360" y="278136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8360" y="234792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8360" y="191628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8360" y="148428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8360" y="6206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093080" y="620640"/>
            <a:ext cx="431640" cy="3024360"/>
            <a:chOff x="7093080" y="620640"/>
            <a:chExt cx="431640" cy="3024360"/>
          </a:xfrm>
        </p:grpSpPr>
        <p:sp>
          <p:nvSpPr>
            <p:cNvPr id="201" name=""/>
            <p:cNvSpPr/>
            <p:nvPr/>
          </p:nvSpPr>
          <p:spPr>
            <a:xfrm>
              <a:off x="7093080" y="6206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3080" y="148428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93080" y="191628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93080" y="234792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93080" y="278136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93080" y="321300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364000" y="620640"/>
            <a:ext cx="432000" cy="4751640"/>
            <a:chOff x="5364000" y="620640"/>
            <a:chExt cx="432000" cy="4751640"/>
          </a:xfrm>
        </p:grpSpPr>
        <p:sp>
          <p:nvSpPr>
            <p:cNvPr id="208" name=""/>
            <p:cNvSpPr/>
            <p:nvPr/>
          </p:nvSpPr>
          <p:spPr>
            <a:xfrm>
              <a:off x="5364000" y="6206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64000" y="148428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64000" y="191628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64000" y="234792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4000" y="278136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64000" y="321300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64000" y="364500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64000" y="40766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64000" y="450864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64000" y="494028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203640" y="1916280"/>
            <a:ext cx="3456000" cy="431640"/>
            <a:chOff x="3203640" y="1916280"/>
            <a:chExt cx="3456000" cy="431640"/>
          </a:xfrm>
        </p:grpSpPr>
        <p:sp>
          <p:nvSpPr>
            <p:cNvPr id="219" name=""/>
            <p:cNvSpPr/>
            <p:nvPr/>
          </p:nvSpPr>
          <p:spPr>
            <a:xfrm>
              <a:off x="4932360" y="191628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6000" y="191628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7640" y="191628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67280" y="191628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8920" y="191628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5280" y="191628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191628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635280" y="4076640"/>
            <a:ext cx="4321080" cy="432000"/>
            <a:chOff x="3635280" y="4076640"/>
            <a:chExt cx="4321080" cy="432000"/>
          </a:xfrm>
        </p:grpSpPr>
        <p:sp>
          <p:nvSpPr>
            <p:cNvPr id="227" name=""/>
            <p:cNvSpPr/>
            <p:nvPr/>
          </p:nvSpPr>
          <p:spPr>
            <a:xfrm>
              <a:off x="7524720" y="40766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91280" y="40766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59640" y="40766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27640" y="40766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96000" y="40766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35280" y="40766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67280" y="40766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8920" y="40766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32360" y="40766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340000" y="2781360"/>
            <a:ext cx="4319640" cy="431640"/>
            <a:chOff x="2340000" y="2781360"/>
            <a:chExt cx="4319640" cy="431640"/>
          </a:xfrm>
        </p:grpSpPr>
        <p:sp>
          <p:nvSpPr>
            <p:cNvPr id="237" name=""/>
            <p:cNvSpPr/>
            <p:nvPr/>
          </p:nvSpPr>
          <p:spPr>
            <a:xfrm>
              <a:off x="5796000" y="278136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40000" y="278136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71640" y="278136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03640" y="278136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35280" y="278136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7280" y="278136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8920" y="278136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32360" y="278136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7640" y="278136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340000" y="3213000"/>
            <a:ext cx="4319640" cy="431640"/>
            <a:chOff x="2340000" y="3213000"/>
            <a:chExt cx="4319640" cy="431640"/>
          </a:xfrm>
        </p:grpSpPr>
        <p:sp>
          <p:nvSpPr>
            <p:cNvPr id="247" name=""/>
            <p:cNvSpPr/>
            <p:nvPr/>
          </p:nvSpPr>
          <p:spPr>
            <a:xfrm>
              <a:off x="6227640" y="321300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40000" y="32130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71640" y="321300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3640" y="32130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37080" y="32130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68720" y="3213000"/>
              <a:ext cx="43200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00720" y="32130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32360" y="32130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6000" y="32130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932360" y="4941720"/>
            <a:ext cx="3024360" cy="432000"/>
            <a:chOff x="4932360" y="4941720"/>
            <a:chExt cx="3024360" cy="432000"/>
          </a:xfrm>
        </p:grpSpPr>
        <p:sp>
          <p:nvSpPr>
            <p:cNvPr id="257" name=""/>
            <p:cNvSpPr/>
            <p:nvPr/>
          </p:nvSpPr>
          <p:spPr>
            <a:xfrm>
              <a:off x="4932360" y="494172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24720" y="494172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3080" y="494172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61080" y="494172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27640" y="494172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96000" y="494172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364000" y="117360"/>
            <a:ext cx="43200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93080" y="117360"/>
            <a:ext cx="43164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8360" y="115920"/>
            <a:ext cx="43164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6720" y="2781360"/>
            <a:ext cx="43164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6720" y="3213000"/>
            <a:ext cx="43164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4076640"/>
            <a:ext cx="43200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4941720"/>
            <a:ext cx="431640" cy="4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4726080"/>
            <a:ext cx="4105440" cy="1942920"/>
          </a:xfrm>
          <a:prstGeom prst="wedgeRectCallout">
            <a:avLst>
              <a:gd name="adj1" fmla="val -43000"/>
              <a:gd name="adj2" fmla="val -106453"/>
            </a:avLst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04520" y="5661000"/>
            <a:ext cx="1311480" cy="58140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960" y="4797360"/>
            <a:ext cx="390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, которые ч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век выращивает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умбах, цветник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647520" y="977760"/>
            <a:ext cx="5148720" cy="584640"/>
            <a:chOff x="3647520" y="977760"/>
            <a:chExt cx="5148720" cy="584640"/>
          </a:xfrm>
        </p:grpSpPr>
        <p:sp>
          <p:nvSpPr>
            <p:cNvPr id="274" name=""/>
            <p:cNvSpPr/>
            <p:nvPr/>
          </p:nvSpPr>
          <p:spPr>
            <a:xfrm>
              <a:off x="3647520" y="9777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68720" y="981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24120" y="98100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33800" y="981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65440" y="981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981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29440" y="98100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60360" y="98100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94520" y="98100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27240" y="981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7800" y="98100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89800" y="981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71240" y="5157720"/>
            <a:ext cx="33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идор, огурец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…..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65080" y="557280"/>
            <a:ext cx="473760" cy="4893120"/>
            <a:chOff x="5365080" y="557280"/>
            <a:chExt cx="473760" cy="4893120"/>
          </a:xfrm>
        </p:grpSpPr>
        <p:sp>
          <p:nvSpPr>
            <p:cNvPr id="288" name=""/>
            <p:cNvSpPr/>
            <p:nvPr/>
          </p:nvSpPr>
          <p:spPr>
            <a:xfrm>
              <a:off x="5365800" y="5572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65440" y="141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65440" y="1844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5440" y="227664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65800" y="2708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65800" y="314172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65080" y="35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65800" y="40053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65440" y="443700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5440" y="4869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77120" y="4941720"/>
            <a:ext cx="410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к, чеснок, кап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тофель – эт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21440" y="546120"/>
            <a:ext cx="546480" cy="3177000"/>
            <a:chOff x="7021440" y="546120"/>
            <a:chExt cx="546480" cy="3177000"/>
          </a:xfrm>
        </p:grpSpPr>
        <p:sp>
          <p:nvSpPr>
            <p:cNvPr id="300" name=""/>
            <p:cNvSpPr/>
            <p:nvPr/>
          </p:nvSpPr>
          <p:spPr>
            <a:xfrm>
              <a:off x="7094520" y="546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94520" y="141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21440" y="1844640"/>
              <a:ext cx="51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95240" y="2276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94520" y="270828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94520" y="3141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79280" y="479736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и растения человек выращивает на полях, а в пищу употребляет семена(зёрн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468360" y="404640"/>
            <a:ext cx="2448000" cy="220032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8389800" y="546120"/>
            <a:ext cx="473400" cy="3605400"/>
            <a:chOff x="8389800" y="546120"/>
            <a:chExt cx="473400" cy="3605400"/>
          </a:xfrm>
        </p:grpSpPr>
        <p:sp>
          <p:nvSpPr>
            <p:cNvPr id="309" name=""/>
            <p:cNvSpPr/>
            <p:nvPr/>
          </p:nvSpPr>
          <p:spPr>
            <a:xfrm>
              <a:off x="8389800" y="5461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89800" y="141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89800" y="18446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89800" y="2276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9800" y="270828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89800" y="313704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89800" y="3570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700360" y="1916280"/>
            <a:ext cx="431640" cy="431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240" y="4730760"/>
            <a:ext cx="370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, у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употреб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ищу пло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ывают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205080" y="1841400"/>
            <a:ext cx="3430440" cy="584640"/>
            <a:chOff x="3205080" y="1841400"/>
            <a:chExt cx="3430440" cy="584640"/>
          </a:xfrm>
        </p:grpSpPr>
        <p:sp>
          <p:nvSpPr>
            <p:cNvPr id="319" name=""/>
            <p:cNvSpPr/>
            <p:nvPr/>
          </p:nvSpPr>
          <p:spPr>
            <a:xfrm>
              <a:off x="3205080" y="184140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6360" y="18446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68720" y="1844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01800" y="18446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33800" y="1844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7440" y="1844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9080" y="1844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2808000" cy="2087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3800" y="4797360"/>
            <a:ext cx="37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, из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ают волок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ывают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лён, хло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341440" y="2700360"/>
            <a:ext cx="4294080" cy="589320"/>
            <a:chOff x="2341440" y="2700360"/>
            <a:chExt cx="4294080" cy="589320"/>
          </a:xfrm>
        </p:grpSpPr>
        <p:sp>
          <p:nvSpPr>
            <p:cNvPr id="329" name=""/>
            <p:cNvSpPr/>
            <p:nvPr/>
          </p:nvSpPr>
          <p:spPr>
            <a:xfrm>
              <a:off x="2341440" y="2700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308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5080" y="270828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36360" y="2708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68720" y="27082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01800" y="2708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33800" y="270828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7440" y="270828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29080" y="2708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324000" y="404640"/>
            <a:ext cx="1417320" cy="20876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8"/>
          <a:stretch/>
        </p:blipFill>
        <p:spPr>
          <a:xfrm>
            <a:off x="1692360" y="549360"/>
            <a:ext cx="1439640" cy="1944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82880" y="4941720"/>
            <a:ext cx="407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е растения,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ыжовник, смород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ина - называют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6384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393640" y="3137040"/>
            <a:ext cx="4243320" cy="586080"/>
            <a:chOff x="2393640" y="3137040"/>
            <a:chExt cx="4243320" cy="586080"/>
          </a:xfrm>
        </p:grpSpPr>
        <p:sp>
          <p:nvSpPr>
            <p:cNvPr id="343" name=""/>
            <p:cNvSpPr/>
            <p:nvPr/>
          </p:nvSpPr>
          <p:spPr>
            <a:xfrm>
              <a:off x="2393640" y="313704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44360" y="31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49000" y="31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37080" y="31417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68720" y="3141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02160" y="3141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05440" y="31417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7440" y="31417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29080" y="314172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2" name="" descr=""/>
          <p:cNvPicPr/>
          <p:nvPr/>
        </p:nvPicPr>
        <p:blipFill>
          <a:blip r:embed="rId9"/>
          <a:stretch/>
        </p:blipFill>
        <p:spPr>
          <a:xfrm>
            <a:off x="395280" y="404640"/>
            <a:ext cx="2413080" cy="22510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54520" y="5013360"/>
            <a:ext cx="378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щивает челов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ывают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636720" y="4002120"/>
            <a:ext cx="4295880" cy="584640"/>
            <a:chOff x="3636720" y="4002120"/>
            <a:chExt cx="4295880" cy="584640"/>
          </a:xfrm>
        </p:grpSpPr>
        <p:sp>
          <p:nvSpPr>
            <p:cNvPr id="355" name=""/>
            <p:cNvSpPr/>
            <p:nvPr/>
          </p:nvSpPr>
          <p:spPr>
            <a:xfrm>
              <a:off x="3636720" y="40021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68360" y="40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01800" y="40053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05080" y="400536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7080" y="40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29080" y="40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61080" y="40021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94520" y="4005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26160" y="40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" descr=""/>
          <p:cNvPicPr/>
          <p:nvPr/>
        </p:nvPicPr>
        <p:blipFill>
          <a:blip r:embed="rId10"/>
          <a:stretch/>
        </p:blipFill>
        <p:spPr>
          <a:xfrm>
            <a:off x="395280" y="404640"/>
            <a:ext cx="2735280" cy="1792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4"/>
          <p:cNvPicPr/>
          <p:nvPr/>
        </p:nvPicPr>
        <p:blipFill>
          <a:blip r:embed="rId11"/>
          <a:stretch/>
        </p:blipFill>
        <p:spPr>
          <a:xfrm>
            <a:off x="1332000" y="1268280"/>
            <a:ext cx="628560" cy="79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67760" y="5013360"/>
            <a:ext cx="418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блоня, груша, сли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фруктово-яг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933440" y="4865760"/>
            <a:ext cx="2994480" cy="584640"/>
            <a:chOff x="4933440" y="4865760"/>
            <a:chExt cx="2994480" cy="584640"/>
          </a:xfrm>
        </p:grpSpPr>
        <p:sp>
          <p:nvSpPr>
            <p:cNvPr id="368" name=""/>
            <p:cNvSpPr/>
            <p:nvPr/>
          </p:nvSpPr>
          <p:spPr>
            <a:xfrm>
              <a:off x="4933440" y="48657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97440" y="4869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29080" y="4869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61080" y="486900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4520" y="486900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26160" y="486900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" descr=""/>
          <p:cNvPicPr/>
          <p:nvPr/>
        </p:nvPicPr>
        <p:blipFill>
          <a:blip r:embed="rId12"/>
          <a:stretch/>
        </p:blipFill>
        <p:spPr>
          <a:xfrm>
            <a:off x="395280" y="333360"/>
            <a:ext cx="2336760" cy="233676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01080" y="5805360"/>
            <a:ext cx="501480" cy="503280"/>
          </a:xfrm>
          <a:custGeom>
            <a:avLst/>
            <a:gdLst>
              <a:gd name="textAreaLeft" fmla="*/ 32400 w 501480"/>
              <a:gd name="textAreaRight" fmla="*/ 469080 w 5014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3794" y="3832"/>
                </a:moveTo>
                <a:lnTo>
                  <a:pt x="17806" y="10839"/>
                </a:lnTo>
                <a:lnTo>
                  <a:pt x="3794" y="17845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484360" y="1197000"/>
            <a:ext cx="43149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808360" cy="2556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4"/>
          <p:cNvPicPr/>
          <p:nvPr/>
        </p:nvPicPr>
        <p:blipFill>
          <a:blip r:embed="rId3"/>
          <a:stretch/>
        </p:blipFill>
        <p:spPr>
          <a:xfrm>
            <a:off x="5796000" y="4365720"/>
            <a:ext cx="136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ecc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zem4uzinka.ru/viewtopic.php?id=2374&amp;p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ll.mybb2.ru/viewtopic.php?p=3845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tringer.ucoz.ru/index/0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ussholding.ru/?act=pages&amp;id=1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evin.ru/redbook/contentp/7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volgogradexpo.ru/532/3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ag.arizona.edu/hydroponictomatoes/prun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phototusya.narod.ru/photoalbum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0lik.ru/2007/1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llday.ru/index.php?newsid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=1596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allday.ru/user/Krim13/new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kopona.com/tags/клипарт/page/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kakpostroit-dom.ru/construction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goldenone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?page=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91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enagold.ru/fon/clipart/fru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onventart.ru/index.php?productID=38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ll-flowers.ucoz.ru/photo/narciss/mif_o_narcisse_chitat/2-0-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loo.ru/klipart/gladiolus/1/gladiolus0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nifiga-sebe.ru/index.php?year=2009&amp;month=03&amp;day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ll-biz.info/ru/buy/goods/?group=1056075&amp;page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pteke.net/article/kapustnaya-diet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rastenia-mira.ru/xlopchatnik-obyknovennyj-upland-gossypium-hirsutum-l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doctortrav.ru/herbs/skin/page/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rutravi.ru/labels/vitaminy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blogs.mail.ru/mail/irinanesmashnaya/569431fd43aeac8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prowincial.3dn.ru/publ/sad/sadovaja_zemljanika_klubnika/3-1-0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ad6sotok.ru/page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new.polisorb.ru/ru/Novosti?news_key=1109&amp;page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vn.ru/index.php?id=923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asia.ru/ru/Catalog/?page=2&amp;category_id=14620&amp;country=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agroatlas.ru/related/Avena_strigosa_ru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www.belena.biz/sh/ych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84720" y="1413000"/>
            <a:ext cx="2697480" cy="2697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9640" y="1268280"/>
            <a:ext cx="1611360" cy="219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27080" y="620640"/>
            <a:ext cx="5935320" cy="764280"/>
          </a:xfrm>
          <a:prstGeom prst="rect">
            <a:avLst/>
          </a:pr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Назови одним сло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132000" y="1628640"/>
            <a:ext cx="2195640" cy="2048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95640" y="3860640"/>
            <a:ext cx="1668600" cy="250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516720" y="4221000"/>
            <a:ext cx="1919160" cy="194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39640" y="3716280"/>
            <a:ext cx="1576440" cy="28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124000" y="5300640"/>
            <a:ext cx="1197000" cy="112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77160" y="620640"/>
            <a:ext cx="2637360" cy="764280"/>
          </a:xfrm>
          <a:prstGeom prst="rect">
            <a:avLst/>
          </a:prstGeom>
          <a:solidFill>
            <a:srgbClr val="ffff66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ydisc.am/izosoft_060.html?tab=s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gorod-bez-zabot.ru/?p=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ylik.ru/user/Natawka/news/page/59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hqwalls.com.ua/food_018_fruit-vegetables_1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y-shop.ru/shop/books/52439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arket-garden.ru/production/ogorod/kustarniki/2243/page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-compas.ru/compas/da4a_d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alya.ru/cat_page.php?id=877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xusa.ucoz.ru/load/32-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3280" y="481824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180216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1301760" cy="1239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1104840" cy="190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значение для человека имеют раст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16000" y="4292640"/>
            <a:ext cx="2160720" cy="1450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300720" y="4076640"/>
            <a:ext cx="1612800" cy="172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6804000" y="1268280"/>
            <a:ext cx="1733400" cy="146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 rot="2082600">
            <a:off x="5795640" y="2204640"/>
            <a:ext cx="1444680" cy="1208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7600" y="566100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мят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13040" y="3557520"/>
            <a:ext cx="27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ат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240" y="35575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ют полезные ве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6680" y="566100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евают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33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71640" y="2565360"/>
            <a:ext cx="1477800" cy="201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1989000"/>
            <a:ext cx="2592360" cy="648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4920" y="1989000"/>
            <a:ext cx="2592360" cy="648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стар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1989000"/>
            <a:ext cx="2592360" cy="648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00000" y="472608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708360" y="2708280"/>
            <a:ext cx="1836720" cy="1712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564000" y="4508640"/>
            <a:ext cx="1787400" cy="1807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732720" y="2708280"/>
            <a:ext cx="1028520" cy="1832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527880" y="4437000"/>
            <a:ext cx="1284120" cy="192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86240" y="476280"/>
            <a:ext cx="7966800" cy="11912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Цель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узнать, на какие ещё 2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жно  разделить раст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40464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На какие группы мо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азделить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се раст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125800" cy="2665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64800" y="620640"/>
            <a:ext cx="4912920" cy="764280"/>
          </a:xfrm>
          <a:prstGeom prst="rect">
            <a:avLst/>
          </a:prstGeom>
          <a:solidFill>
            <a:srgbClr val="ffcc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Сравни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1773360"/>
            <a:ext cx="2232000" cy="5032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щ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4294080"/>
            <a:ext cx="2232000" cy="503280"/>
          </a:xfrm>
          <a:prstGeom prst="roundRect">
            <a:avLst>
              <a:gd name="adj" fmla="val 50000"/>
            </a:avLst>
          </a:prstGeom>
          <a:solidFill>
            <a:srgbClr val="ffcc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лич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2492280"/>
            <a:ext cx="3528720" cy="1513080"/>
          </a:xfrm>
          <a:prstGeom prst="horizontalScroll">
            <a:avLst>
              <a:gd name="adj" fmla="val 12500"/>
            </a:avLst>
          </a:prstGeom>
          <a:solidFill>
            <a:srgbClr val="ccff66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осят поль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8920" y="4724280"/>
            <a:ext cx="279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Хвой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стёт в л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89480" y="4653000"/>
            <a:ext cx="385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Ли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стёт в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хаживает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443640" y="692280"/>
            <a:ext cx="2046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220500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156360" y="620640"/>
            <a:ext cx="2484360" cy="231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864800" y="620640"/>
            <a:ext cx="4912920" cy="764280"/>
          </a:xfrm>
          <a:prstGeom prst="rect">
            <a:avLst/>
          </a:prstGeom>
          <a:solidFill>
            <a:srgbClr val="ffcc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Сравни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773360"/>
            <a:ext cx="2232000" cy="5032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щ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492280"/>
            <a:ext cx="3528720" cy="1513080"/>
          </a:xfrm>
          <a:prstGeom prst="horizontalScroll">
            <a:avLst>
              <a:gd name="adj" fmla="val 12500"/>
            </a:avLst>
          </a:prstGeom>
          <a:solidFill>
            <a:srgbClr val="ccff66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стар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осят поль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4294080"/>
            <a:ext cx="2232000" cy="503280"/>
          </a:xfrm>
          <a:prstGeom prst="roundRect">
            <a:avLst>
              <a:gd name="adj" fmla="val 50000"/>
            </a:avLst>
          </a:prstGeom>
          <a:solidFill>
            <a:srgbClr val="ffcc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лич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280" y="4937040"/>
            <a:ext cx="29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стение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4920" y="4883040"/>
            <a:ext cx="385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стение с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хаживает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300720" y="620640"/>
            <a:ext cx="2219400" cy="3952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5280" y="549360"/>
            <a:ext cx="2592360" cy="3887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1773360"/>
            <a:ext cx="2232000" cy="5032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щ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2492280"/>
            <a:ext cx="4248360" cy="1513080"/>
          </a:xfrm>
          <a:prstGeom prst="horizontalScroll">
            <a:avLst>
              <a:gd name="adj" fmla="val 12500"/>
            </a:avLst>
          </a:prstGeom>
          <a:solidFill>
            <a:srgbClr val="ccff66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вянист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осят поль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4294080"/>
            <a:ext cx="2232000" cy="503280"/>
          </a:xfrm>
          <a:prstGeom prst="roundRect">
            <a:avLst>
              <a:gd name="adj" fmla="val 50000"/>
            </a:avLst>
          </a:prstGeom>
          <a:solidFill>
            <a:srgbClr val="ffcc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лич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8560" y="493704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стёт повсю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000" y="5043600"/>
            <a:ext cx="343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астёт в ого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ажает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3560" y="620640"/>
            <a:ext cx="4912920" cy="764280"/>
          </a:xfrm>
          <a:prstGeom prst="rect">
            <a:avLst/>
          </a:prstGeom>
          <a:solidFill>
            <a:srgbClr val="ffcc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Сравни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4000"/>
                </a:solidFill>
                <a:latin typeface="Monotype Corsiva"/>
              </a:rPr>
              <a:t>На какие же ещё 2 группы можно разделить все растения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28464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щивает че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к специа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28464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кто не саж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растут сами по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7080" y="2276640"/>
            <a:ext cx="2709000" cy="642600"/>
          </a:xfrm>
          <a:prstGeom prst="rect">
            <a:avLst/>
          </a:prstGeom>
          <a:solidFill>
            <a:srgbClr val="ff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Культу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3440" y="2276640"/>
            <a:ext cx="3262320" cy="642600"/>
          </a:xfrm>
          <a:prstGeom prst="rect">
            <a:avLst/>
          </a:prstGeom>
          <a:solidFill>
            <a:srgbClr val="ff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Дикорасту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2" descr="J0233040"/>
          <p:cNvPicPr/>
          <p:nvPr/>
        </p:nvPicPr>
        <p:blipFill>
          <a:blip r:embed="rId2"/>
          <a:stretch/>
        </p:blipFill>
        <p:spPr>
          <a:xfrm>
            <a:off x="1116000" y="4799160"/>
            <a:ext cx="1566720" cy="15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бер"/>
          <p:cNvPicPr/>
          <p:nvPr/>
        </p:nvPicPr>
        <p:blipFill>
          <a:blip r:embed="rId3"/>
          <a:stretch/>
        </p:blipFill>
        <p:spPr>
          <a:xfrm>
            <a:off x="7321680" y="4149720"/>
            <a:ext cx="133812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4"/>
          <p:cNvPicPr/>
          <p:nvPr/>
        </p:nvPicPr>
        <p:blipFill>
          <a:blip r:embed="rId4"/>
          <a:stretch/>
        </p:blipFill>
        <p:spPr>
          <a:xfrm>
            <a:off x="6777000" y="5516640"/>
            <a:ext cx="628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71280" y="556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44f00"/>
                </a:solidFill>
                <a:latin typeface="Monotype Corsiva"/>
              </a:rPr>
              <a:t>Работа в пара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44680"/>
            <a:ext cx="2592360" cy="15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9720" y="2411280"/>
            <a:ext cx="8064720" cy="35060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рисунки на стр.62 учеб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зовите друг другу изображё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ие из них культурные, а ка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корастущ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27080" y="692280"/>
            <a:ext cx="38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619280" y="2276640"/>
            <a:ext cx="6232320" cy="396072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38:28Z</dcterms:created>
  <dc:creator>мама</dc:creator>
  <dc:description/>
  <dc:language>en-US</dc:language>
  <cp:lastModifiedBy>мама</cp:lastModifiedBy>
  <dcterms:modified xsi:type="dcterms:W3CDTF">2010-10-09T08:56:32Z</dcterms:modified>
  <cp:revision>10</cp:revision>
  <dc:subject/>
  <dc:title>Слайд 1</dc:title>
</cp:coreProperties>
</file>